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320840" cy="1392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 rot="10800000">
            <a:off x="180720" y="1598040"/>
            <a:ext cx="8791560" cy="45720"/>
          </a:xfrm>
          <a:prstGeom prst="roundRect">
            <a:avLst>
              <a:gd name="adj" fmla="val 3569"/>
            </a:avLst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7010280" y="6248520"/>
            <a:ext cx="20574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71560" y="115560"/>
            <a:ext cx="7789680" cy="140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02880" y="1780920"/>
            <a:ext cx="776916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7000"/>
              </a:lnSpc>
              <a:spcBef>
                <a:spcPts val="550"/>
              </a:spcBef>
              <a:buClr>
                <a:srgbClr val="330099"/>
              </a:buClr>
              <a:buSzPct val="60000"/>
              <a:buFont typeface="Times New Roman"/>
              <a:buChar char="■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7000"/>
              </a:lnSpc>
              <a:spcBef>
                <a:spcPts val="550"/>
              </a:spcBef>
              <a:buClr>
                <a:srgbClr val="9edbe9"/>
              </a:buClr>
              <a:buSzPct val="55000"/>
              <a:buFont typeface="Times New Roman"/>
              <a:buChar char="■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550"/>
              </a:spcBef>
              <a:buClr>
                <a:srgbClr val="330099"/>
              </a:buClr>
              <a:buSzPct val="50000"/>
              <a:buFont typeface="Times New Roman"/>
              <a:buChar char="■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7000"/>
              </a:lnSpc>
              <a:spcBef>
                <a:spcPts val="550"/>
              </a:spcBef>
              <a:buClr>
                <a:srgbClr val="ffcf01"/>
              </a:buClr>
              <a:buSzPct val="55000"/>
              <a:buFont typeface="Times New Roman"/>
              <a:buChar char="■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7000"/>
              </a:lnSpc>
              <a:spcBef>
                <a:spcPts val="550"/>
              </a:spcBef>
              <a:buClr>
                <a:srgbClr val="ffcf01"/>
              </a:buClr>
              <a:buSzPct val="50000"/>
              <a:buFont typeface="Times New Roman"/>
              <a:buChar char="■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7000"/>
              </a:lnSpc>
              <a:spcBef>
                <a:spcPts val="550"/>
              </a:spcBef>
              <a:buClr>
                <a:srgbClr val="000000"/>
              </a:buClr>
              <a:buSzPct val="50000"/>
              <a:buFont typeface="Times New Roman"/>
              <a:buChar char="■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7000"/>
              </a:lnSpc>
              <a:spcBef>
                <a:spcPts val="550"/>
              </a:spcBef>
              <a:buClr>
                <a:srgbClr val="000000"/>
              </a:buClr>
              <a:buSzPct val="50000"/>
              <a:buFont typeface="Times New Roman"/>
              <a:buChar char="■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90520" y="2546280"/>
            <a:ext cx="709560" cy="473040"/>
            <a:chOff x="290520" y="2546280"/>
            <a:chExt cx="709560" cy="473040"/>
          </a:xfrm>
        </p:grpSpPr>
        <p:sp>
          <p:nvSpPr>
            <p:cNvPr id="42" name=""/>
            <p:cNvSpPr/>
            <p:nvPr/>
          </p:nvSpPr>
          <p:spPr>
            <a:xfrm>
              <a:off x="290520" y="2546280"/>
              <a:ext cx="438120" cy="473040"/>
            </a:xfrm>
            <a:custGeom>
              <a:avLst/>
              <a:gdLst>
                <a:gd name="textAreaLeft" fmla="*/ 360 w 438120"/>
                <a:gd name="textAreaRight" fmla="*/ 437760 w 438120"/>
                <a:gd name="textAreaTop" fmla="*/ 360 h 473040"/>
                <a:gd name="textAreaBottom" fmla="*/ 472680 h 473040"/>
              </a:gdLst>
              <a:ahLst/>
              <a:rect l="textAreaLeft" t="textAreaTop" r="textAreaRight" b="textAreaBottom"/>
              <a:pathLst>
                <a:path w="21600" h="23320">
                  <a:moveTo>
                    <a:pt x="78" y="0"/>
                  </a:moveTo>
                  <a:arcTo wR="78" hR="78" stAng="16200000" swAng="-5400000"/>
                  <a:lnTo>
                    <a:pt x="0" y="23242"/>
                  </a:lnTo>
                  <a:arcTo wR="78" hR="78" stAng="10800000" swAng="-5400000"/>
                  <a:lnTo>
                    <a:pt x="21522" y="23320"/>
                  </a:lnTo>
                  <a:arcTo wR="78" hR="78" stAng="5400000" swAng="-5400000"/>
                  <a:lnTo>
                    <a:pt x="21600" y="78"/>
                  </a:lnTo>
                  <a:arcTo wR="78" hR="78" stAng="0" swAng="-5400000"/>
                  <a:close/>
                </a:path>
              </a:pathLst>
            </a:cu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71400" y="2546280"/>
              <a:ext cx="328680" cy="473040"/>
            </a:xfrm>
            <a:custGeom>
              <a:avLst/>
              <a:gdLst>
                <a:gd name="textAreaLeft" fmla="*/ 360 w 328680"/>
                <a:gd name="textAreaRight" fmla="*/ 328320 w 328680"/>
                <a:gd name="textAreaTop" fmla="*/ 360 h 473040"/>
                <a:gd name="textAreaBottom" fmla="*/ 472680 h 473040"/>
              </a:gdLst>
              <a:ahLst/>
              <a:rect l="textAreaLeft" t="textAreaTop" r="textAreaRight" b="textAreaBottom"/>
              <a:pathLst>
                <a:path w="21600" h="31077">
                  <a:moveTo>
                    <a:pt x="104" y="0"/>
                  </a:moveTo>
                  <a:arcTo wR="104" hR="104" stAng="16200000" swAng="-5400000"/>
                  <a:lnTo>
                    <a:pt x="0" y="30973"/>
                  </a:lnTo>
                  <a:arcTo wR="104" hR="104" stAng="10800000" swAng="-5400000"/>
                  <a:lnTo>
                    <a:pt x="21496" y="31077"/>
                  </a:lnTo>
                  <a:arcTo wR="104" hR="104" stAng="5400000" swAng="-5400000"/>
                  <a:lnTo>
                    <a:pt x="21600" y="104"/>
                  </a:lnTo>
                  <a:arcTo wR="104" hR="104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33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" name=""/>
          <p:cNvGrpSpPr/>
          <p:nvPr/>
        </p:nvGrpSpPr>
        <p:grpSpPr>
          <a:xfrm>
            <a:off x="414360" y="2968560"/>
            <a:ext cx="738000" cy="473040"/>
            <a:chOff x="414360" y="2968560"/>
            <a:chExt cx="738000" cy="473040"/>
          </a:xfrm>
        </p:grpSpPr>
        <p:sp>
          <p:nvSpPr>
            <p:cNvPr id="45" name=""/>
            <p:cNvSpPr/>
            <p:nvPr/>
          </p:nvSpPr>
          <p:spPr>
            <a:xfrm>
              <a:off x="414360" y="2968560"/>
              <a:ext cx="422280" cy="473040"/>
            </a:xfrm>
            <a:custGeom>
              <a:avLst/>
              <a:gdLst>
                <a:gd name="textAreaLeft" fmla="*/ 360 w 422280"/>
                <a:gd name="textAreaRight" fmla="*/ 421920 w 422280"/>
                <a:gd name="textAreaTop" fmla="*/ 360 h 473040"/>
                <a:gd name="textAreaBottom" fmla="*/ 472680 h 473040"/>
              </a:gdLst>
              <a:ahLst/>
              <a:rect l="textAreaLeft" t="textAreaTop" r="textAreaRight" b="textAreaBottom"/>
              <a:pathLst>
                <a:path w="21600" h="24194">
                  <a:moveTo>
                    <a:pt x="81" y="0"/>
                  </a:moveTo>
                  <a:arcTo wR="81" hR="81" stAng="16200000" swAng="-5400000"/>
                  <a:lnTo>
                    <a:pt x="0" y="24113"/>
                  </a:lnTo>
                  <a:arcTo wR="81" hR="81" stAng="10800000" swAng="-5400000"/>
                  <a:lnTo>
                    <a:pt x="21519" y="24194"/>
                  </a:lnTo>
                  <a:arcTo wR="81" hR="81" stAng="5400000" swAng="-5400000"/>
                  <a:lnTo>
                    <a:pt x="21600" y="81"/>
                  </a:lnTo>
                  <a:arcTo wR="81" hR="81" stAng="0" swAng="-5400000"/>
                  <a:close/>
                </a:path>
              </a:pathLst>
            </a:cu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82640" y="2968560"/>
              <a:ext cx="369720" cy="473040"/>
            </a:xfrm>
            <a:custGeom>
              <a:avLst/>
              <a:gdLst>
                <a:gd name="textAreaLeft" fmla="*/ 360 w 369720"/>
                <a:gd name="textAreaRight" fmla="*/ 369360 w 369720"/>
                <a:gd name="textAreaTop" fmla="*/ 360 h 473040"/>
                <a:gd name="textAreaBottom" fmla="*/ 472680 h 473040"/>
              </a:gdLst>
              <a:ahLst/>
              <a:rect l="textAreaLeft" t="textAreaTop" r="textAreaRight" b="textAreaBottom"/>
              <a:pathLst>
                <a:path w="21600" h="27630">
                  <a:moveTo>
                    <a:pt x="93" y="0"/>
                  </a:moveTo>
                  <a:arcTo wR="93" hR="93" stAng="16200000" swAng="-5400000"/>
                  <a:lnTo>
                    <a:pt x="0" y="27537"/>
                  </a:lnTo>
                  <a:arcTo wR="93" hR="93" stAng="10800000" swAng="-5400000"/>
                  <a:lnTo>
                    <a:pt x="21507" y="27630"/>
                  </a:lnTo>
                  <a:arcTo wR="93" hR="93" stAng="5400000" swAng="-5400000"/>
                  <a:lnTo>
                    <a:pt x="21600" y="93"/>
                  </a:lnTo>
                  <a:arcTo wR="93" hR="93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0" y="2895480"/>
            <a:ext cx="560520" cy="422280"/>
          </a:xfrm>
          <a:prstGeom prst="roundRect">
            <a:avLst>
              <a:gd name="adj" fmla="val 375"/>
            </a:avLst>
          </a:prstGeom>
          <a:gradFill rotWithShape="0">
            <a:gsLst>
              <a:gs pos="0">
                <a:srgbClr val="9edbe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040" y="2438280"/>
            <a:ext cx="31680" cy="1052640"/>
          </a:xfrm>
          <a:custGeom>
            <a:avLst/>
            <a:gdLst>
              <a:gd name="textAreaLeft" fmla="*/ 360 w 31680"/>
              <a:gd name="textAreaRight" fmla="*/ 31320 w 31680"/>
              <a:gd name="textAreaTop" fmla="*/ 360 h 1052640"/>
              <a:gd name="textAreaBottom" fmla="*/ 1052280 h 1052640"/>
            </a:gdLst>
            <a:ahLst/>
            <a:rect l="textAreaLeft" t="textAreaTop" r="textAreaRight" b="textAreaBottom"/>
            <a:pathLst>
              <a:path w="21600" h="709888">
                <a:moveTo>
                  <a:pt x="1080" y="0"/>
                </a:moveTo>
                <a:arcTo wR="1080" hR="1080" stAng="16200000" swAng="-5400000"/>
                <a:lnTo>
                  <a:pt x="0" y="708808"/>
                </a:lnTo>
                <a:arcTo wR="1080" hR="1080" stAng="10800000" swAng="-5400000"/>
                <a:lnTo>
                  <a:pt x="20520" y="709888"/>
                </a:lnTo>
                <a:arcTo wR="1080" hR="1080" stAng="5400000" swAng="-5400000"/>
                <a:lnTo>
                  <a:pt x="21600" y="1080"/>
                </a:lnTo>
                <a:arcTo wR="1080" hR="1080" stAng="0" swAng="-5400000"/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315720" y="3271320"/>
            <a:ext cx="8683560" cy="46080"/>
          </a:xfrm>
          <a:prstGeom prst="roundRect">
            <a:avLst>
              <a:gd name="adj" fmla="val 3569"/>
            </a:avLst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71480" y="3711600"/>
            <a:ext cx="780912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330099"/>
                </a:solidFill>
                <a:latin typeface="Arial"/>
                <a:ea typeface="HG Mincho Light J"/>
              </a:rPr>
              <a:t>Test de pptht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