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4EA-B29B-45BF-A23C-381E9AA6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DB7-6E3E-4BAA-8D31-4A45F6D2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A49-E227-465E-8D6E-D42DF34D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C65-0118-4572-83FD-9129CCA3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7DD-E65F-4255-A546-286412E5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9D3-EA1E-44F1-8AC3-B6CE7914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36F-5A5E-417B-89AA-9C7E1823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27D-0D93-4024-810C-0CB23CC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7D2-C8A3-41FF-AF34-523B1497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E33-AEC2-41D1-AFB9-8522156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D4C-1871-4496-B3FF-C83F9713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7F6-80F1-4573-93C4-0B3893B9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FB6C-9961-4E29-AAAB-0A4CC97C9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pré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inima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second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ci est une seconde page de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y a aucun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éressante à ce ti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re plus lo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5:31:31Z</dcterms:created>
  <dc:creator>LENFANT-GIL　_x0012_ܿろ䴴t㢠〿_x0002_</dc:creator>
  <dc:description/>
  <dc:language>en-US</dc:language>
  <cp:lastModifiedBy>LENFANT-GIL̀탬_x0012_罥わ팼_x0012_</cp:lastModifiedBy>
  <dcterms:modified xsi:type="dcterms:W3CDTF">2007-07-20T15:38:26Z</dcterms:modified>
  <cp:revision>3</cp:revision>
  <dc:subject/>
  <dc:title>Une présentation</dc:title>
</cp:coreProperties>
</file>