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A68-E443-4B04-B6F5-583C0003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349-0E6D-4D11-936C-6822FF5B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1F1-423C-42B8-A677-7AEB99B4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292-383E-47FE-8799-EFC8B9D8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5E2-122F-45DF-A5F6-9199CAD1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8CE-96A8-45B9-B47C-5743BA4C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5B1-C7FF-4AEA-98C0-77770065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510-8088-4187-8BB1-23A02089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417-B96C-4322-8B64-9EDEB014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5A9-5CE1-4D7B-97F5-211DF457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441-D907-4B37-ADD8-2EE4F90A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E7E-52FA-43B1-AB41-318AA0DD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378A-5D39-4BFC-9642-0DFAFA31D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pré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inima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second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ci est une seconde page de 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y a aucun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éressante à ce ti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re plus lo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5:31:31Z</dcterms:created>
  <dc:creator>LENFANT-GIL　_x0012_ܿろ䴴t㢠〿_x0002_</dc:creator>
  <dc:description/>
  <dc:language>en-US</dc:language>
  <cp:lastModifiedBy>LENFANT-GIL̀탬_x0012_罥わ팼_x0012_</cp:lastModifiedBy>
  <dcterms:modified xsi:type="dcterms:W3CDTF">2007-07-20T15:38:26Z</dcterms:modified>
  <cp:revision>3</cp:revision>
  <dc:subject/>
  <dc:title>Une présentation</dc:title>
</cp:coreProperties>
</file>